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02D8-8714-4FEF-B8AD-DCB9F3C0E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8CD8-09C5-4023-AB59-DC7789ED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2A0B-5AB9-4EF0-BAFF-F979DAB9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D954-5698-4B7E-A294-A2AA277EC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6A6D-65A3-4803-BD6E-5DE5C36B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785A5-BAE4-4D6A-9F39-A1D8389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C5EC-AFC2-42A1-BE7B-4059E236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6998-1C84-4439-B376-D2E2BB75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DCC5-E802-49D3-A5B1-24967239A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A9C6-DCD4-4815-B238-553C4C2B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7A15-F5EF-4EE7-92C8-00950983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5891-A84E-473E-B7CF-FB868E2D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7C6F6-C050-4F6B-8C21-22A22D34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A856-2C92-4CD7-A735-8E34598F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46E86-DCF4-40A9-A29B-4E95BE80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7672B-D7B1-489A-A755-693668800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D9617-D781-4E24-A878-2E7D54E26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344B-2EBE-48F6-AEE8-061B1AEB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A2B4-C08F-4D54-B885-8DE7CE84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1E80-A1C3-4BEC-AED0-F9E16F052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F432-0B62-4E57-A6BC-85AD54C46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F1BB-6441-47D9-8C0C-64E3797F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A5BC-9665-4A47-A651-9AB65BB0A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4C2-3F22-451E-8B6E-CAD09C59F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E35-18A7-48A7-8B5D-A36276CFC1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9AFF-BBE5-4338-BA58-BF31618C80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Termelésirányítás és gazdaságosság 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 már úgy kell irányítani a termelést, hogy többféle terméket, kis sorozatban, minimális egységköltséggel lehessen előállítan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galmas gyártási kapacitások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iegészítve a számítástechnikával támogatott termelési információrendszerrel - lehetővé teszik a rövid átfutási időket, csökkentve az anyagok tárolási, áramlási idejé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élrendszerb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glalv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ütemes termékkibocsátás, egyenletes árbevéte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átfutási idők minimalizálás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apacitások egyenletes terhelés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észletek minimális szinten tartás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azdaságos indítási mennyiségek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ugalmassá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omplex célrendszer a gyakorlatban egymás ellenható tényezők eredőjeként, optimálási feladat formájában jelentkez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oldása során a termelésirányításnak több, különböző szempontot kell együttesen figyelembe venni és mérlegelni, mielőtt döntéseit meghozz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termelési logisztika teljesítményei és költségei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melési folyamat újszerű megközelítése a logisztikai koncepció, amely a teljes anyag- és információáramlás integrált tervezési, irányítási és ellenőrzési rendszerét jelenti a beszállítóktól a vállalaton keresztül a vevőki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ogisztika= nyersanyagok, félkész termékek és készgyártmányok, és az ezekkel összefüggő információk szállítási pontról fogadási pontra történő hatékony, a költségek szempontjából kedvező mozgatásának és tárolásának tervezési, végrehajtási és ellenőrzési folyamat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A termelési logisztika teljesítménye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ly- és helyzetváltoztat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rakodás, helyzetbeállítá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szállítás, továbbítá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tárolá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Átalakítá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gmunkálá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összeépítés, szerelé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gisztikai telj. befolyásoló tényező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ennyisé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áramlás intenzitás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áramlás sebesség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logisztikai munka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nyagáramlási útvonal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yártás technológiai elrendezés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termelési logisztika gazdaságosságát méri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eljesítmény és az annak elérése érdekében eszközölt ráfordítás hányadosa (vagy különbsé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 teljesítmény állandó a vizsgálat időpontjában: a termelési logisztika  egyszerűsített gazdaságossági kritérium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 költségek minimalizálá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z egyes költségelemeket elemez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anyagáramoltatás részfeladatainak költsége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r + Ksz + Kt + Km = 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hol: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r: rakodási költsé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sz: szállítási költsé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t: tárolási költség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m: átalakítási költsé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 logisztikai egységköltsége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ajlagos költségek a logisztikai teljesítményegységre vonatkoztatott költséget fejezik k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ltségfüggvény alakulása a logisztikai teljesítményre, illetve kapacitáskihasználásra érzékeny, vagy nem, ill.kevésbé érzékeny költségelemek értékétől és súlyarányától függően változi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 termelésirányítás célrendszer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állalati működés folyamatos fenntartásához ütemes termékkibocsátás é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yenletes árbevéte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zükséges, mivel a termelés költségei és az általános költségek is folyamatosan merülnek f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a termékek elkészülése ne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enletes ütemben történi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özvetlen gyártási átalakítási költsége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ajlagos értéke nem változik a gyártási mennyiség függvényé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készületi, átállítási költsége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áramoltatott mennyiségekhez kapcsolódó egyszeri, mennyiségtől nem, vagy kevéssé függő ráfordítások fajlagos költsége kis mennyiségeknél igen magas, és a mennyiség növekedésével egy y = konstans/x alakú függvény szerint csökk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észletezési és készletfinanszírozási költsége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rendelkezésre álló eszközök teljesítő képességének kedvező műszaki kihasználás határáig alig emelkednek, a túlterhelés, vagy a pénzügyi források túllépése esetén  progresszíven emelkednek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ajlagos készletezési költségek növekedése határt szab a gyártási és logisztikai egységköltségek csökkenésének a mennyiség függvényében. Ezért a fajlagos költségek függvénye kissé torzult parabola alakot vesz f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örbe minimum pontjának helye a vízszintes tengelyen 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üzemi optimumo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ehhez tartozó költség érték az adott technológiai változat esetén a legkisebb fajlagos költséget mutatj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állalat érdeke, hogy ennek a minimum pontnak a közelében működtesse kapacitásai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Fejlesztési alternatívák mérlegelése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ogisztikai rendszer költségeiben másként jelenik meg a beruházásból, egyszeri ráfordításból, származó, és másként a folyamatos üzemeltetésből adódó költsé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lehetséges technológiai változatok, fejlesztési alternatívák vizsgálatakor a logisztikai összköltség meghatározásával dönthető el a gazdaságosság kérdése, általában az átáramló, legyártandó mennyiség függvényébe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: összes költség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Q: logisztikai teljesítmény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.: technológiai változ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I.: technológiai változat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1: az l. változat beruházási költsé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2: a II. változat beruházási költsége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1: az l. változat üzemeltetési költsé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Ü2: a II. változat üzemeltetési költsége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Qm: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ritikus logisztikai teljesítmén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Qkrit mennyiség a fenti adatok alapján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2-B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-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Ü1-Ü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Qkrit értékénél kisebb logisztikai teljesítményre az I. változa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nagyobb teljesítmény esetén a II. változat a gazdaságosabb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termékek eltérő mennyiségű munkaráfordításokat vesznek fel, eltérő átfutási idők ala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 a termelési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áfordítások időben egyenletesek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a kibocsátás egyenlőtlen, a jelentkező különbségeket a gyártási folyamat, mint tároló rendszer fogja fel készletek formájáb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gyártásirányítás feladata, hogy az egyenletes árbevétel érdekében egyenletes ütemben töltse fel az anyag-, befejezetlen- és késztermék készleteket és a gyártás folyamatos fenntartásához szükséges minimális mértéken tart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közbe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áfordítások és az értékesítése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idejűleg töltik és ürítik a tároló rendszer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hát a vállalatnak nemcsak a termelési folyamat folytonossága fontos, hanem az egyes termékek gyártásának folyamatossága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által biztosítható a gyártmányok legkisebb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átfutási idej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övid átfutási időnek 2 okból van jelentőség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rendelések visszaigazolásánál 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gyártásban lekötött forgóeszközök gyorsabb megtérülése szempontjábó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sonló jellegű és volumenű munkafeladatok  ismétlődése esetén az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ütemes termékkibocsátás egyenletes terhelés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elent a gyártás számára, így az erőforrások kihasználtsága folyamatosan biztosíthat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összehangolás problémája főleg a rendszertelenül fellépő egyedi igények kielégítése pl. egyedi gyártás  esetén merül f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ütemes termékkibocsátás és az egyenletes terhelés megvalósításában fontos szerepet játszik a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ömegszerűsé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és a rá ható tényező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ermelési folyamatot, mint átalakító-áramoltató rendszert hatékonynak tekintjük ha megvalósítja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mék előállításában a legrövidebb átfutási időt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összességében az összes erőforrás betáplálás és tárolás legkisebb ráfordításai mellett a lehető legnagyobb gazdasági eredményt hozz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gyártási folyamat előtt alatt és közben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árolási, készletezési szükséglete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épnek fe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ek összessége: a vállalat folyamatos működéséhez szükséges forgóeszköz készl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zdaságos felhasználásukat a készletszinteknek a -termelés zavartalan fenntartásához szükséges - minimális szinten tartását a termelésirányítás a gyártás irányításával szoros összefüggésben határozza meg és biztosítj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gyszerre gyártandó termékmennyiségek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gállapítására a gazdaságossági számítások 2 irányból közelíten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gyártási egységköltség optimalizálása 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a kapacitás kihasználás maximalizálása felő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agyományos un. gazdaságos sorozatnagyságok meghatározásának alapja az indítási, átállítási költségek és a készletezési költségek mennyiségnövekedésre ellentétesen reagáló változásaiból eredő egységköltség optimum keresés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4T00:04:31Z</dcterms:created>
  <dc:creator>Laci</dc:creator>
  <dc:description/>
  <dc:language>en-US</dc:language>
  <cp:lastModifiedBy>Laci</cp:lastModifiedBy>
  <dcterms:modified xsi:type="dcterms:W3CDTF">1980-01-04T04:04:48Z</dcterms:modified>
  <cp:revision>5</cp:revision>
  <dc:subject/>
  <dc:title>1. dia</dc:title>
</cp:coreProperties>
</file>